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42009-B5F5-4B53-87D0-C8F3E54ED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BAA0-1E7B-4A11-A435-11803FCFB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7F5B4-DB86-4381-AC21-CC72731B4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CE638-9D46-4EE2-B039-D71851264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C160E-A8F4-4499-B171-FE1F3A552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55A45-7DD0-4A13-BB56-E19BC6E92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9DCD-A16D-410C-BC60-890A0138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10FC1-54F2-4ADF-A8A2-7DDB84804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D2C6D-3911-403F-A7A2-B004BF62D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68027-CB56-4FBC-908B-90AF222C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D434-92E2-4CA8-851C-636DBB2CD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90B86-398F-4244-99F1-7515326E8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E3AF-0FD6-4A75-A549-84916F06DB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ms.hhs.gov/AcuteInpatientPPS/FFD/itemdetail.asp?filterType=none&amp;filterByDID=-99&amp;sortByDID=2&amp;sortOrder=ascending&amp;itemID=CMS1201740&amp;intNumPerPage=10"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ms.hhs.gov/quarterlyproviderupdates/downloads/cms1533fc.pdf" TargetMode="External"/><Relationship Id="rId2" Type="http://schemas.openxmlformats.org/officeDocument/2006/relationships/hyperlink" Target="http://www.cms.hhs.gov/MLNMattersArticles/downloads/MM5499.pdf" TargetMode="External"/><Relationship Id="rId3" Type="http://schemas.openxmlformats.org/officeDocument/2006/relationships/hyperlink" Target="http://www.cdc.gov/nchs/datawh/ftpserv/ftpicd9/ftpicd9.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01(c) of Deficit Reduction Act  (DRA) requires Secretary to select at least two conditions by 10/1/07 that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igh cost or high volume or b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ssigned to a higher paying DRG when present as a secondary diagn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asonably preventable through application of evidence based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C7743FA-1AAA-4C55-A434-7EAE8A6AC0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K3 segment reads as foll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AYNUW1YZ” - Represents claim with 1 principal and 5 secondary diagnoses (6 PO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OA (Y) and 5 secondary POAs ar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OA (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if POA (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undetermined (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t from reporting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 (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indicates the end of the POA data el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00A59D-1B5B-4E8E-8BB2-60F30B746F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ospital-acquired conditions (HACs) for 10/1/08 implementation</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object left in surger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8.4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air embolism</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1 - M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blood incompatibili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6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eter associated urinary tract infecti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6.64 &amp; 599.0 – CC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F1BCDA4-3649-478C-B52C-F9B0560ED4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ACs for 10/1/08 implementation - continued</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ulcer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0, 707.01, &amp; 707.09 – CC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2 – 707.07 - MCCs</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catheter associated infec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9.31- CC</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ical site infection – Mediastinitis after CABG</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2 - MCC &amp; 36.10 – 36.19</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s – specific trauma cod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ms.hhs.gov/AcuteInpatientPPS/FFD/itemdetail.asp?filterType=none&amp;filterByDID=-99&amp;sortByDID=2&amp;sortOrder=ascending&amp;itemID=CMS1201740&amp;intNumPerPage=10</a:t>
            </a:r>
            <a:r>
              <a:rPr b="0" lang="en-US" sz="2400" spc="-1" strike="noStrike">
                <a:solidFill>
                  <a:srgbClr val="000000"/>
                </a:solidFill>
                <a:latin typeface="Arial"/>
              </a:rPr>
              <a:t> - MCC &amp; CC</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AF463B-2002-4511-B9FC-03A6D9F079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dditional HAC possibilities for 10/1/08</a:t>
            </a:r>
            <a:endParaRPr b="0" lang="en-US" sz="32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ilator associated pneumonia – working to create new code</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hylococcus aureus septicemia – need to clarify instances when preventable</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8.11 + 995.91, 998.59, 999.3 - MCCs</a:t>
            </a:r>
            <a:endParaRPr b="0" lang="en-US" sz="20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vein thrombosis (DVT) and pulmonary embolism (PE) – need to identify instances when preventable, such as after certain elective surgeries</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T: 453.40 – 453.42 – CC</a:t>
            </a:r>
            <a:endParaRPr b="0" lang="en-US" sz="20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 415.10 &amp; 415.19 - MCC</a:t>
            </a:r>
            <a:endParaRPr b="0" lang="en-US" sz="20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B5AA7F-4EB6-4918-A6F8-04399150B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cited input from the industry on better defining these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olicited additional areas for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examine other area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tridium Difficile-Associated Disease (CDAD) 008.45 – CC.  Lack of prevention guidel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icillin-Resistant Staphyloccocus Aureus (MR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09.0 – not a C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discuss further in the IPPS proposed rule for FY 200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FD70B7-C06E-4D29-8A6A-B700001AC0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nform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PS final rule - </a:t>
            </a:r>
            <a:r>
              <a:rPr b="0" lang="en-US" sz="2800" spc="-1" strike="noStrike" u="sng">
                <a:solidFill>
                  <a:srgbClr val="009999"/>
                </a:solidFill>
                <a:uFillTx/>
                <a:latin typeface="Arial"/>
                <a:hlinkClick r:id="rId1"/>
              </a:rPr>
              <a:t>http://www.cms.hhs.gov/quarterlyproviderupdates/downloads/cms1533fc.pd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conditions – page 47200</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N Matters – POA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ms.hhs.gov/MLNMattersArticles/downloads/MM5499.pd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 guidelines- ICD-9CM Official Guidelines, p. 9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www.cdc.gov/nchs/datawh/ftpserv/ftpicd9/ftpicd9.ht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EE8A1C-A8FD-47E9-B145-7769580F356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10/1/08, the conditions will not be assigned to higher paying DRG unless present on admission (PO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ospital-acquired condition is only MCC/CC then HAC will not lead to assignment to MCC/CC severi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ther secondary conditions reported which are MCC/CCs, then case would be assigned to higher severity lev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ischarges on or after 10/1/07 -hospitals begin submitting POA information on secondary diagno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s CAH, psych and rehab hospit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only to acute IPPS hospit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3AE852C-4382-46C9-95D3-67704B47E3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porting POA for discharges on or after 10/1/07.  No penalty at fir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1/1/08 claims will be processed without POA; however, will get remark code in remittance advice noting omission of PO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4/1/08 – claim returned if POA info is miss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CE89065-9C16-464A-9835-993A8F1DA4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data entry (DDE) screens cannot be updated to include this information until January 1,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hospitals submitting claims via DDE will begin submitting POA indicators on 1/1/08</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4684B5-2A02-44DC-A706-059D8CCB5C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submitted electronically via 837, 4010A1 format shall use </a:t>
            </a:r>
            <a:r>
              <a:rPr b="1" lang="en-US" sz="3200" spc="-1" strike="noStrike">
                <a:solidFill>
                  <a:srgbClr val="000000"/>
                </a:solidFill>
                <a:latin typeface="Arial"/>
              </a:rPr>
              <a:t>segment K3 in the 2300 loop, data element K3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lement shall contain letters “POA”, followed by a single POA indicator for every diagnosis on the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 for principal diagnosis should be first indicator after “PO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4813B5E-347B-4086-973C-139D623E36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diagnoses will follow, if applic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st POA indicator for principal and, if applicable, other diagnoses shall be followed by the letter “Z” to indicate the end of POA indicators for principal and, if applicable, other diagnos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A3A9831-FEAA-488E-872A-468FFF2B71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ndicators should be reported in the same sequence as are the principal and secondary diagn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s should be included for all diagnoses reported on the claim, even though CMS currently only processes the first 9 diagno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9DFB5F-027A-4751-8320-9A0192E87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 on Admission Indicator</a:t>
            </a:r>
            <a:br>
              <a:rPr sz="4000"/>
            </a:br>
            <a:r>
              <a:rPr b="0" lang="en-US" sz="4000" spc="-1" strike="noStrike">
                <a:solidFill>
                  <a:srgbClr val="000000"/>
                </a:solidFill>
                <a:latin typeface="Arial"/>
              </a:rPr>
              <a:t>Paper Claim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10/1/07 hospitals reporting on UB-04 paper claims will also report POA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s placed in the eighth digit of FL 67, Principal diagnosis and the eighth digit of each Secondary diagnosis in fields FL 67 A-Q</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BBB99B-4265-481C-9368-BD176C704A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Yes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o (not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 Unknown (documentation is insufficient to determine if condition is present at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 Clinically undetermined (provider is unable to clinically determine whether condition was present at time of inpatient admission or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Unreported/Not used – Exempt from POA reporting (This code is the equivalent of a blank on the UB-04, but blanks are not desirable when submitting data via the 4010A1.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F6D5E5-95FA-43CB-BCC4-2212961B9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55:57Z</dcterms:created>
  <dc:creator>Pat Brooks</dc:creator>
  <dc:description/>
  <dc:language>en-US</dc:language>
  <cp:lastModifiedBy>MadyHue</cp:lastModifiedBy>
  <dcterms:modified xsi:type="dcterms:W3CDTF">2007-09-26T20:29:50Z</dcterms:modified>
  <cp:revision>28</cp:revision>
  <dc:subject/>
  <dc:title>MS-DRGs and other IPP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6472950</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